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881-029B-45C9-B5B0-C0E662B3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A2E-D84A-4585-93D1-9DCE9D11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BE33-A0EE-431B-B106-C7B59418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1AE-543E-488B-8E45-E3509FF3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E7C1-F5E4-43DC-AD81-6E306266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1568-726C-4434-A96E-84402C75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D57-3B3F-4BB0-B600-45770662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FC0-C576-436D-906C-B5FC5FA1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6CB9-90C9-42AB-AAE1-D3E4F3D5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823-0952-4FFA-ABFF-D38C315BA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CA7-219A-4BB9-AA02-71105BE4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1F6-DF6B-4C58-8696-36B12BBE3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4D7-1D55-4EA8-A12B-75DD4312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3CC4-29F4-440A-8C7B-8B6913B20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094-1AB2-4ED6-8935-68C7C16C0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42CE-F741-477A-949B-7E753682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E68B-8B6E-4F57-AE8A-4607E23B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B82-805A-4CE7-BBB6-A54E6079E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CD36-3659-4379-B343-C914C476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4F92-4FF9-4983-8CB7-3088F607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0B5-3509-42E4-BE37-F8B0E9DC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52C-C013-4460-9F6A-16BE6EEA7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E24-C859-435C-B945-330209E4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1566-98CF-4A1C-A452-76235070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D98-CFE0-40B3-918C-1941DF22B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9AA7-A61C-4F70-878D-204C5053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1F60-BFDC-47A5-821C-E67667863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4A4-0BFE-4C5E-B0CF-6C85B848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CA58-C947-4B97-BB5A-20ECF86B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A79-48F4-4D3B-9BF0-8F9CA582D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9129-6CB2-4A09-8FAD-1EC5A7A7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97DB-89E3-4156-8083-8D248D4FA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4B7-812B-4C51-8899-6465146B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F8A-C5A1-4313-9C3B-F0D213FF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F1E8-AB15-47DA-B07A-1FF20769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F6A-5F4B-484D-849E-C52D5C88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AE0-1D15-40A7-A070-09F1AD19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767-B3DA-4315-B838-7D3BFDAD7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4569-F7C7-4E9C-8A79-5DD142A7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F98A-C41F-452F-A3FD-F2A6BC7E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F27-DC0B-42A6-B4D0-AD16CBAF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821-F990-46FD-85D8-D568ECF2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DDD-719F-4ED4-BDA2-5F7481FD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B3D-A2BE-4D2B-91F0-56117F005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6BA-E802-469C-87C3-AB2B5DFD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FB5-15B4-4E0A-8CE1-1B8678E7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C0E-4721-487A-A3EA-05AE69CA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2164-A208-45B0-8715-2287AED1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68E-5D68-489A-820B-2291EBF2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3D1-8169-48D1-B715-95148163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75F6-46EF-4102-8FF6-DC37F6E2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3C3-73ED-4523-B434-4DB1270A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240-DFA2-47BE-81B4-661FD2DE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300-4A3A-4350-8CF4-91E9CB7B5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9D23-EF19-4857-9CAF-7AA1B68D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AFA-403B-4C4B-A77A-85A65329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D421-D61F-4201-A2B7-86E8CE6D4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FD5E-F196-4450-95D4-38FEEC078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ED78-0B73-4C57-853C-C3118A16C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94F-528D-483C-8C63-A82187C9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C69-6DF6-4A01-BE3D-2344B507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CF10-76F6-4119-94D6-3E31A07FE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428-2260-47B1-8F14-472EEC9C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62F3-70F6-45D2-9E2D-9243CABA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86B-D6A9-4CCD-8CAA-0D4BFBD3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7AC-68F2-4760-91D9-762A00EE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CCC-ED51-4C60-92E0-F2A53F5B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4D5F-8849-4EAA-9B1B-01F30F3B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25A-666A-40A5-A942-5760F6511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F147-B887-4E97-B1A3-B6F5DBA0D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1C1-FE84-4E88-A454-ED54D82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C95-A6A2-4E47-BA16-AF7FBB3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9E0-505A-4CB7-8B2D-A2668E48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4A9-CBDD-4B40-AA86-A0793125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A5E-4CBE-4B59-A39A-08EA6728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B61-729C-4244-8613-FB25B885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13C-E63E-4E66-AB27-DD081A1F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F06-98E5-44E2-A12F-0B3C0BB8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AE2-68F6-4A11-A74A-4DB3D34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354-8F15-4987-A7F4-14B9FBD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103-C9D5-409E-BE1D-114FFB7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43F-4BE7-4A7B-B808-32DA544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B80-03DD-496E-A278-7D418AB7713B}" type="slidenum">
              <a:rPr b="0" lang="en-US" sz="12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" Target="slide36.xml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slide" Target="slide46.xml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slide" Target="slide56.xml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slide" Target="slide7.xml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slide" Target="slide17.xml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slide" Target="slide27.xml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slide" Target="slide40.xml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slide" Target="slide48.xml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slide" Target="slide58.xml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slide" Target="slide9.xml"/><Relationship Id="rId38" Type="http://schemas.openxmlformats.org/officeDocument/2006/relationships/image" Target="../media/image3.png"/><Relationship Id="rId39" Type="http://schemas.openxmlformats.org/officeDocument/2006/relationships/image" Target="../media/image2.png"/><Relationship Id="rId40" Type="http://schemas.openxmlformats.org/officeDocument/2006/relationships/slide" Target="slide19.xml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slide" Target="slide29.xml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slide" Target="slide38.xml"/><Relationship Id="rId47" Type="http://schemas.openxmlformats.org/officeDocument/2006/relationships/image" Target="../media/image3.png"/><Relationship Id="rId48" Type="http://schemas.openxmlformats.org/officeDocument/2006/relationships/image" Target="../media/image2.png"/><Relationship Id="rId49" Type="http://schemas.openxmlformats.org/officeDocument/2006/relationships/slide" Target="slide50.xml"/><Relationship Id="rId50" Type="http://schemas.openxmlformats.org/officeDocument/2006/relationships/image" Target="../media/image3.png"/><Relationship Id="rId51" Type="http://schemas.openxmlformats.org/officeDocument/2006/relationships/image" Target="../media/image2.png"/><Relationship Id="rId52" Type="http://schemas.openxmlformats.org/officeDocument/2006/relationships/slide" Target="slide60.xml"/><Relationship Id="rId53" Type="http://schemas.openxmlformats.org/officeDocument/2006/relationships/image" Target="../media/image3.png"/><Relationship Id="rId54" Type="http://schemas.openxmlformats.org/officeDocument/2006/relationships/image" Target="../media/image2.png"/><Relationship Id="rId55" Type="http://schemas.openxmlformats.org/officeDocument/2006/relationships/slide" Target="slide11.xml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slide" Target="slide21.xml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slide" Target="slide31.xml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slide" Target="slide42.xml"/><Relationship Id="rId65" Type="http://schemas.openxmlformats.org/officeDocument/2006/relationships/image" Target="../media/image3.png"/><Relationship Id="rId66" Type="http://schemas.openxmlformats.org/officeDocument/2006/relationships/image" Target="../media/image2.png"/><Relationship Id="rId67" Type="http://schemas.openxmlformats.org/officeDocument/2006/relationships/slide" Target="slide52.xml"/><Relationship Id="rId68" Type="http://schemas.openxmlformats.org/officeDocument/2006/relationships/image" Target="../media/image3.png"/><Relationship Id="rId69" Type="http://schemas.openxmlformats.org/officeDocument/2006/relationships/image" Target="../media/image2.png"/><Relationship Id="rId70" Type="http://schemas.openxmlformats.org/officeDocument/2006/relationships/slide" Target="slide62.xml"/><Relationship Id="rId71" Type="http://schemas.openxmlformats.org/officeDocument/2006/relationships/image" Target="../media/image3.png"/><Relationship Id="rId72" Type="http://schemas.openxmlformats.org/officeDocument/2006/relationships/image" Target="../media/image2.png"/><Relationship Id="rId73" Type="http://schemas.openxmlformats.org/officeDocument/2006/relationships/slide" Target="slide13.xml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slide" Target="slide23.xml"/><Relationship Id="rId77" Type="http://schemas.openxmlformats.org/officeDocument/2006/relationships/image" Target="../media/image3.png"/><Relationship Id="rId78" Type="http://schemas.openxmlformats.org/officeDocument/2006/relationships/image" Target="../media/image2.png"/><Relationship Id="rId79" Type="http://schemas.openxmlformats.org/officeDocument/2006/relationships/slide" Target="slide35.xml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slide" Target="slide44.xml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slide" Target="slide54.xml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slide" Target="slide64.xml"/><Relationship Id="rId89" Type="http://schemas.openxmlformats.org/officeDocument/2006/relationships/image" Target="../media/image3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4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5.png"/><Relationship Id="rId101" Type="http://schemas.openxmlformats.org/officeDocument/2006/relationships/image" Target="../media/image6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illili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ric unit used to measure distance from Birmingham to Tuscalo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kil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measure large volu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ubic meter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ece of equipment used to determine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used to measure a precise volume of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graduated cylin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used to produce a flame using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000" spc="-1" strike="noStrike">
                <a:solidFill>
                  <a:srgbClr val="21b2c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Bunsen Burn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measure and dispense small amounts of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rop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pment that magnifies nonliving specimens at least 10,000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lectron microscop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conducting a lab that involves chemicals.  I need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afety goggles/glas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had an accident in the lab.  The next step is to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nform the teac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soaked in a chemical.  I must 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URRY to safety sho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Me - 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mell a chemical I should use 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wafting meth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295280" y="19810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 the nozz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eeze the ha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eep at base from si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ASS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step in scientific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5800" y="2666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bserve and state the probl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 used by scientists to gather information and answer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cientific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 Can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se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lp M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vesti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xper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is a hypothesis use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hen it can be tes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ypothesis is based on 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rior knowledge or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pted as true.  Data proven many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the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xperi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 comparison; it is kept the same during an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ntrol group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-5335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express measurements For example: (cm, mL, 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ange made during an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independent vari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asured in an exper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ependent varia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ent variables depend on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independent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ree types of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line, pie, and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change ov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in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Uni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s more than one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s must equal 10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ircle or Pi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played on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P ME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65120" y="64008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heat a test tube over an open flame, one should hold the test 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t an angle away from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 units used in SI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Meter, Gram, and Li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ubic centimeter equal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UATiM</cp:lastModifiedBy>
  <dcterms:modified xsi:type="dcterms:W3CDTF">2010-02-25T20:57:54Z</dcterms:modified>
  <cp:revision>66</cp:revision>
  <dc:subject/>
  <dc:title>No Slide Title</dc:title>
</cp:coreProperties>
</file>